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603A-5F77-413A-A655-43EF8B9F9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0404B-3ACE-4339-A1C9-D5F1336E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88F7-006A-48FB-ACB3-EE12ACA5A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F8E09-A406-4F0A-963D-0684AF827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15B3-7C04-4A6B-86C4-BB37EC60D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A7E8-D0E7-4AA4-AF6C-A9AD4BB3E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873F7-8AFF-4186-94FD-77E4230C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B759-7BD0-46A5-98FA-4E45FF1D5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AF5-4490-4DFA-AF2E-F11FE7C3C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52D-758E-454E-9E42-A3DFC3E34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1DDF-A847-4BBC-BDB4-2BFCE110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D8F5-E6A6-4E9D-8222-0CA30A40D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A229-7AE8-48CA-81E9-18D8047383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Chapter 13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6000"/>
            </a:b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Section 1:</a:t>
            </a: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Right Triangle Trigonometry</a:t>
            </a: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17220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There are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six trigonometric functions: Sine, Cosine, Tangent, Cosecant, Secant, and Cotangent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1447920" y="3276720"/>
            <a:ext cx="5410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omic Sans MS"/>
              </a:rPr>
              <a:t>They are abbreviated: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70c0"/>
                </a:solidFill>
                <a:latin typeface="Comic Sans MS"/>
              </a:rPr>
              <a:t>Sin, Cos, Tan, Csc, Sec, and Co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380880" y="6095880"/>
            <a:ext cx="61722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Gothic"/>
              </a:rPr>
              <a:t>Pythagorean Theorem:  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+ b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 = c</a:t>
            </a:r>
            <a:r>
              <a:rPr b="1" lang="en-US" sz="44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rcRect l="11320" t="32584" r="9434" b="27938"/>
          <a:stretch/>
        </p:blipFill>
        <p:spPr>
          <a:xfrm>
            <a:off x="-76320" y="0"/>
            <a:ext cx="6934320" cy="746748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2068560" y="7086600"/>
            <a:ext cx="163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(p. 77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1. Evaluate the six trig functions of the angel θ shown in the figure in the right triangle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" name="Group 2"/>
          <p:cNvGrpSpPr/>
          <p:nvPr/>
        </p:nvGrpSpPr>
        <p:grpSpPr>
          <a:xfrm>
            <a:off x="3276720" y="2971800"/>
            <a:ext cx="3590280" cy="5157000"/>
            <a:chOff x="3276720" y="2971800"/>
            <a:chExt cx="3590280" cy="5157000"/>
          </a:xfrm>
        </p:grpSpPr>
        <p:sp>
          <p:nvSpPr>
            <p:cNvPr id="49" name="Text Box 3"/>
            <p:cNvSpPr/>
            <p:nvPr/>
          </p:nvSpPr>
          <p:spPr>
            <a:xfrm>
              <a:off x="4364640" y="3296520"/>
              <a:ext cx="435960" cy="58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omic Sans MS"/>
                </a:rPr>
                <a:t>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" name="Group 4"/>
            <p:cNvGrpSpPr/>
            <p:nvPr/>
          </p:nvGrpSpPr>
          <p:grpSpPr>
            <a:xfrm>
              <a:off x="3276720" y="2971800"/>
              <a:ext cx="3590280" cy="5157000"/>
              <a:chOff x="3276720" y="2971800"/>
              <a:chExt cx="3590280" cy="5157000"/>
            </a:xfrm>
          </p:grpSpPr>
          <p:grpSp>
            <p:nvGrpSpPr>
              <p:cNvPr id="51" name="Group 5"/>
              <p:cNvGrpSpPr/>
              <p:nvPr/>
            </p:nvGrpSpPr>
            <p:grpSpPr>
              <a:xfrm>
                <a:off x="4429080" y="2971800"/>
                <a:ext cx="2084400" cy="3647160"/>
                <a:chOff x="4429080" y="2971800"/>
                <a:chExt cx="2084400" cy="3647160"/>
              </a:xfrm>
            </p:grpSpPr>
            <p:sp>
              <p:nvSpPr>
                <p:cNvPr id="52" name="AutoShape 6"/>
                <p:cNvSpPr/>
                <p:nvPr/>
              </p:nvSpPr>
              <p:spPr>
                <a:xfrm>
                  <a:off x="4429080" y="2971800"/>
                  <a:ext cx="2084400" cy="3645360"/>
                </a:xfrm>
                <a:prstGeom prst="rtTriangl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Rectangle 7"/>
                <p:cNvSpPr/>
                <p:nvPr/>
              </p:nvSpPr>
              <p:spPr>
                <a:xfrm>
                  <a:off x="4429080" y="6292080"/>
                  <a:ext cx="198360" cy="32688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" name="Text Box 8"/>
              <p:cNvSpPr/>
              <p:nvPr/>
            </p:nvSpPr>
            <p:spPr>
              <a:xfrm>
                <a:off x="4723920" y="7238880"/>
                <a:ext cx="1271880" cy="8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Text Box 9"/>
              <p:cNvSpPr/>
              <p:nvPr/>
            </p:nvSpPr>
            <p:spPr>
              <a:xfrm>
                <a:off x="5263560" y="3926880"/>
                <a:ext cx="1603440" cy="890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Text Box 10"/>
              <p:cNvSpPr/>
              <p:nvPr/>
            </p:nvSpPr>
            <p:spPr>
              <a:xfrm>
                <a:off x="3276720" y="4287240"/>
                <a:ext cx="1271880" cy="88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spcAft>
                    <a:spcPts val="1001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mic Sans MS"/>
                  </a:rPr>
                  <a:t>     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Comic Sans MS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7" name="Ink 18"/>
          <p:cNvSpPr/>
          <p:nvPr/>
        </p:nvSpPr>
        <p:spPr>
          <a:xfrm>
            <a:off x="534960" y="6392880"/>
            <a:ext cx="12600" cy="1440"/>
          </a:xfrm>
          <a:custGeom>
            <a:avLst/>
            <a:gdLst/>
            <a:ahLst/>
            <a:rect l="l" t="t" r="r" b="b"/>
            <a:pathLst>
              <a:path w="34" h="1">
                <a:moveTo>
                  <a:pt x="1488" y="17760"/>
                </a:moveTo>
                <a:cubicBezTo>
                  <a:pt x="1499" y="17760"/>
                  <a:pt x="1510" y="17760"/>
                  <a:pt x="1521" y="17760"/>
                </a:cubicBezTo>
              </a:path>
            </a:pathLst>
          </a:custGeom>
          <a:noFill/>
          <a:ln cap="rnd"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ONOMETRIC VALUES FOR SPECIAL TRIANGLES (p. 770)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rcRect l="10453" t="27938" r="9434" b="39552"/>
          <a:stretch/>
        </p:blipFill>
        <p:spPr>
          <a:xfrm>
            <a:off x="0" y="2514600"/>
            <a:ext cx="7010280" cy="3657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rcRect l="19522" t="59291" r="10815" b="18652"/>
          <a:stretch/>
        </p:blipFill>
        <p:spPr>
          <a:xfrm>
            <a:off x="304920" y="6477120"/>
            <a:ext cx="609588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5"/>
          <p:cNvSpPr/>
          <p:nvPr/>
        </p:nvSpPr>
        <p:spPr>
          <a:xfrm>
            <a:off x="457200" y="60948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2. Sin 60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"/>
          <p:cNvSpPr/>
          <p:nvPr/>
        </p:nvSpPr>
        <p:spPr>
          <a:xfrm>
            <a:off x="380880" y="594360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4. Sec 45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380880" y="350532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3.  Cos 30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=</a:t>
            </a:r>
            <a:r>
              <a:rPr b="0" lang="es-E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Group 2"/>
          <p:cNvGrpSpPr/>
          <p:nvPr/>
        </p:nvGrpSpPr>
        <p:grpSpPr>
          <a:xfrm>
            <a:off x="3962520" y="457200"/>
            <a:ext cx="2589840" cy="2361960"/>
            <a:chOff x="3962520" y="457200"/>
            <a:chExt cx="2589840" cy="2361960"/>
          </a:xfrm>
        </p:grpSpPr>
        <p:sp>
          <p:nvSpPr>
            <p:cNvPr id="65" name="Text Box 3"/>
            <p:cNvSpPr/>
            <p:nvPr/>
          </p:nvSpPr>
          <p:spPr>
            <a:xfrm>
              <a:off x="5082840" y="771840"/>
              <a:ext cx="1389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4"/>
            <p:cNvSpPr/>
            <p:nvPr/>
          </p:nvSpPr>
          <p:spPr>
            <a:xfrm>
              <a:off x="3962520" y="838800"/>
              <a:ext cx="838800" cy="30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60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5"/>
            <p:cNvGrpSpPr/>
            <p:nvPr/>
          </p:nvGrpSpPr>
          <p:grpSpPr>
            <a:xfrm>
              <a:off x="3998520" y="457200"/>
              <a:ext cx="2553840" cy="1719360"/>
              <a:chOff x="3998520" y="457200"/>
              <a:chExt cx="2553840" cy="1719360"/>
            </a:xfrm>
          </p:grpSpPr>
          <p:sp>
            <p:nvSpPr>
              <p:cNvPr id="68" name="AutoShape 6"/>
              <p:cNvSpPr/>
              <p:nvPr/>
            </p:nvSpPr>
            <p:spPr>
              <a:xfrm>
                <a:off x="3998520" y="457200"/>
                <a:ext cx="2553840" cy="171936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7"/>
              <p:cNvSpPr/>
              <p:nvPr/>
            </p:nvSpPr>
            <p:spPr>
              <a:xfrm flipH="1">
                <a:off x="4009320" y="2000880"/>
                <a:ext cx="243000" cy="154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Text Box 8"/>
            <p:cNvSpPr/>
            <p:nvPr/>
          </p:nvSpPr>
          <p:spPr>
            <a:xfrm>
              <a:off x="4531320" y="2101680"/>
              <a:ext cx="138996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9"/>
          <p:cNvGrpSpPr/>
          <p:nvPr/>
        </p:nvGrpSpPr>
        <p:grpSpPr>
          <a:xfrm>
            <a:off x="4289040" y="3276720"/>
            <a:ext cx="2035080" cy="2057040"/>
            <a:chOff x="4289040" y="3276720"/>
            <a:chExt cx="2035080" cy="2057040"/>
          </a:xfrm>
        </p:grpSpPr>
        <p:sp>
          <p:nvSpPr>
            <p:cNvPr id="72" name="Text Box 10"/>
            <p:cNvSpPr/>
            <p:nvPr/>
          </p:nvSpPr>
          <p:spPr>
            <a:xfrm>
              <a:off x="5028840" y="3733920"/>
              <a:ext cx="81468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11"/>
            <p:cNvSpPr/>
            <p:nvPr/>
          </p:nvSpPr>
          <p:spPr>
            <a:xfrm>
              <a:off x="4952160" y="5029200"/>
              <a:ext cx="60948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 Box 12"/>
            <p:cNvSpPr/>
            <p:nvPr/>
          </p:nvSpPr>
          <p:spPr>
            <a:xfrm>
              <a:off x="5181120" y="4571640"/>
              <a:ext cx="9007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30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" name="Group 13"/>
            <p:cNvGrpSpPr/>
            <p:nvPr/>
          </p:nvGrpSpPr>
          <p:grpSpPr>
            <a:xfrm>
              <a:off x="4289040" y="3276720"/>
              <a:ext cx="2035080" cy="1667880"/>
              <a:chOff x="4289040" y="3276720"/>
              <a:chExt cx="2035080" cy="1667880"/>
            </a:xfrm>
          </p:grpSpPr>
          <p:sp>
            <p:nvSpPr>
              <p:cNvPr id="76" name="AutoShape 14"/>
              <p:cNvSpPr/>
              <p:nvPr/>
            </p:nvSpPr>
            <p:spPr>
              <a:xfrm>
                <a:off x="4301280" y="3276720"/>
                <a:ext cx="2022840" cy="166788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Rectangle 15"/>
              <p:cNvSpPr/>
              <p:nvPr/>
            </p:nvSpPr>
            <p:spPr>
              <a:xfrm flipH="1">
                <a:off x="4288680" y="4773240"/>
                <a:ext cx="192600" cy="14868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" name="Group 16"/>
          <p:cNvGrpSpPr/>
          <p:nvPr/>
        </p:nvGrpSpPr>
        <p:grpSpPr>
          <a:xfrm>
            <a:off x="4267080" y="5943600"/>
            <a:ext cx="2361960" cy="1828440"/>
            <a:chOff x="4267080" y="5943600"/>
            <a:chExt cx="2361960" cy="1828440"/>
          </a:xfrm>
        </p:grpSpPr>
        <p:sp>
          <p:nvSpPr>
            <p:cNvPr id="79" name="Text Box 17"/>
            <p:cNvSpPr/>
            <p:nvPr/>
          </p:nvSpPr>
          <p:spPr>
            <a:xfrm>
              <a:off x="4797720" y="7186680"/>
              <a:ext cx="1366560" cy="58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" name="Group 18"/>
            <p:cNvGrpSpPr/>
            <p:nvPr/>
          </p:nvGrpSpPr>
          <p:grpSpPr>
            <a:xfrm>
              <a:off x="4267080" y="5943600"/>
              <a:ext cx="2361960" cy="1301400"/>
              <a:chOff x="4267080" y="5943600"/>
              <a:chExt cx="2361960" cy="1301400"/>
            </a:xfrm>
          </p:grpSpPr>
          <p:sp>
            <p:nvSpPr>
              <p:cNvPr id="81" name="AutoShape 19"/>
              <p:cNvSpPr/>
              <p:nvPr/>
            </p:nvSpPr>
            <p:spPr>
              <a:xfrm>
                <a:off x="4267080" y="5943600"/>
                <a:ext cx="2361960" cy="1300680"/>
              </a:xfrm>
              <a:prstGeom prst="rtTriangle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Rectangle 20"/>
              <p:cNvSpPr/>
              <p:nvPr/>
            </p:nvSpPr>
            <p:spPr>
              <a:xfrm>
                <a:off x="4267080" y="7128360"/>
                <a:ext cx="224640" cy="1166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Text Box 21"/>
            <p:cNvSpPr/>
            <p:nvPr/>
          </p:nvSpPr>
          <p:spPr>
            <a:xfrm>
              <a:off x="4962960" y="6045840"/>
              <a:ext cx="139356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22"/>
            <p:cNvSpPr/>
            <p:nvPr/>
          </p:nvSpPr>
          <p:spPr>
            <a:xfrm>
              <a:off x="5226120" y="6803640"/>
              <a:ext cx="1304640" cy="54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45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Rectangle 29"/>
          <p:cNvSpPr/>
          <p:nvPr/>
        </p:nvSpPr>
        <p:spPr>
          <a:xfrm>
            <a:off x="626040" y="7924680"/>
            <a:ext cx="321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HW:P772#15-2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2T13:44:15Z</dcterms:created>
  <dc:creator>sraja</dc:creator>
  <dc:description/>
  <dc:language>en-US</dc:language>
  <cp:lastModifiedBy>sraja</cp:lastModifiedBy>
  <dcterms:modified xsi:type="dcterms:W3CDTF">2011-02-25T15:02:36Z</dcterms:modified>
  <cp:revision>15</cp:revision>
  <dc:subject/>
  <dc:title>There are six trigonometric functions: Sine, Cosine, Tangent, Cosecant, Secant, and Cotangent.</dc:title>
</cp:coreProperties>
</file>